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2A86-1AAB-4BD5-A988-BD3117DD19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F41-72AE-4E7C-97B7-3E1BAE17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B6C-CC47-4E97-BAA5-9DB95ED8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FAF-6D10-4824-826B-65AAB066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1E3-3B27-47A2-8AFD-0C8A7E82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3E4F-542D-42DD-B564-681AB06E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86EE-DB59-4423-9CD7-12726720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5039-8A30-435D-ABE3-82347A5F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4548-3CA5-4C7B-8B05-8E438DCE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AEC4-F61E-47B3-8B1B-164EC318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D8F6-A571-417C-AE22-B9EE477B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3B01-EF11-4157-B234-0A4AABA7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C62-6E0B-480A-A2ED-14D52FB5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A4C0-7AE6-421A-95EA-C0C98D90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F9A9-CB5A-4483-81B9-2BFA079A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FEA1-1EB6-4412-8E8D-A1F22A17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2B2C-0A5C-4386-A554-1A91087F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78D1-9CFC-4DAA-9C3F-6282A3D2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428-B60E-4FAB-8BD2-63273867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601-3BE4-4868-A629-AEDAC54B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81E-FA48-414D-836C-24CD2537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EDE-13DF-4D85-9D67-A0F78CBD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B58D-FC2D-4D34-BA06-BDF0A0B8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23A-E265-4EDF-9005-AD431793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3CB-4D16-4A5D-AEE3-A147A6E6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4BC9-8E1A-4DE7-BFE8-5AD7AB22854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A5F0-8AF7-4800-BB01-F2A26FEAB41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Reproductive Syste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Fe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2057400" y="2209680"/>
          <a:ext cx="5334120" cy="35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5334120" cy="35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the female sex orga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slowly moves down towards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(womb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sperms are present in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e egg will be fertilised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leads to a muscula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vagina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at opens to the outside of the bod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maleunlabelled"/>
          <p:cNvPicPr/>
          <p:nvPr/>
        </p:nvPicPr>
        <p:blipFill>
          <a:blip r:embed="rId1"/>
          <a:stretch/>
        </p:blipFill>
        <p:spPr>
          <a:xfrm>
            <a:off x="1763640" y="836640"/>
            <a:ext cx="6696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female_reproductive_organs_front"/>
          <p:cNvPicPr/>
          <p:nvPr/>
        </p:nvPicPr>
        <p:blipFill>
          <a:blip r:embed="rId1"/>
          <a:srcRect l="18259" t="40659" r="12353" b="0"/>
          <a:stretch/>
        </p:blipFill>
        <p:spPr>
          <a:xfrm>
            <a:off x="1258920" y="0"/>
            <a:ext cx="67676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ncomfortable Word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4648320" y="1523880"/>
          <a:ext cx="396216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23880"/>
                    <a:ext cx="39621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test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inside a sac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dd a fluid which keeps the sperms a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Pen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peni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must be erect for the semen to pass ou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500 million sperm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0:49:23Z</dcterms:created>
  <dc:creator>IBM_User</dc:creator>
  <dc:description/>
  <dc:language>en-US</dc:language>
  <cp:lastModifiedBy>RomaK</cp:lastModifiedBy>
  <dcterms:modified xsi:type="dcterms:W3CDTF">2015-09-04T11:08:17Z</dcterms:modified>
  <cp:revision>8</cp:revision>
  <dc:subject/>
  <dc:title>Reproductive Systems</dc:title>
</cp:coreProperties>
</file>